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843B-2CCE-48F2-BB14-B010BC7AA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574B-421A-4847-801C-2F358DC6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E5EF-767A-4815-A73E-C69C4250A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5EBD-65B1-4BB0-87D8-F05989B87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A929-AADE-459C-9468-F155A1E0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A8B2-EDDD-4A96-B11D-C4269435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5F7B-2252-4B30-8786-3912816A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3DD5-9116-4BD5-BDDC-9FAF4182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54FC-3FCD-417E-BD22-091D6E87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89B3-0906-47A5-AAD6-6E719C3C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A570-F8EA-42D1-A014-CDA34993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52A5-2493-460E-B6AB-1EFE690A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6831-D4BD-403A-88CB-49B1F45E9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6600" y="0"/>
          <a:ext cx="6658200" cy="906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00" y="0"/>
                    <a:ext cx="6658200" cy="906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7T21:10:39Z</dcterms:created>
  <dc:creator>Joseph Pecorella</dc:creator>
  <dc:description/>
  <dc:language>en-US</dc:language>
  <cp:lastModifiedBy>Administrator</cp:lastModifiedBy>
  <cp:lastPrinted>2000-01-25T22:05:59Z</cp:lastPrinted>
  <dcterms:modified xsi:type="dcterms:W3CDTF">2005-04-07T13:20:12Z</dcterms:modified>
  <cp:revision>35</cp:revision>
  <dc:subject/>
  <dc:title>No Slide Title</dc:title>
</cp:coreProperties>
</file>